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5ED-2CD6-451D-99D7-F5C87907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894-B65B-49FC-ABA2-77174D97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BE8-6CEA-436A-91AD-8510281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06A-F1F1-4823-96D5-9C0AED1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0E1-4C55-48CA-8118-333A975E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A63-6E15-4BE1-804E-3B9A76BD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8E8-CDC7-44F9-BCB3-71F785B9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E4F-6FA2-4783-A8DA-74EBD93D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43A-B412-4BE8-9A43-2995069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E3A-A24F-4B04-AEDC-4E9BBC7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164-89FD-467C-B01D-602C6DB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4BC-42E5-49FA-8E5B-DB48F0D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14A6-B831-48B4-B75B-3B1424D398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2409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"/>
          <p:cNvPicPr/>
          <p:nvPr/>
        </p:nvPicPr>
        <p:blipFill>
          <a:blip r:embed="rId1"/>
          <a:stretch/>
        </p:blipFill>
        <p:spPr>
          <a:xfrm>
            <a:off x="6207120" y="1986120"/>
            <a:ext cx="2409840" cy="2228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2"/>
          <a:stretch/>
        </p:blipFill>
        <p:spPr>
          <a:xfrm>
            <a:off x="914400" y="2871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5"/>
          <a:stretch/>
        </p:blipFill>
        <p:spPr>
          <a:xfrm>
            <a:off x="6199200" y="5065560"/>
            <a:ext cx="231624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920880" y="489600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35240" y="43527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914400" y="38955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1146240" y="332892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0"/>
          <a:stretch/>
        </p:blipFill>
        <p:spPr>
          <a:xfrm>
            <a:off x="969840" y="2114640"/>
            <a:ext cx="8229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6332400" y="2897280"/>
            <a:ext cx="2409840" cy="2228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890640" y="343224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341280" y="2146320"/>
            <a:ext cx="8193240" cy="1262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6516720" y="5202360"/>
            <a:ext cx="2016000" cy="97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</a:rPr>
              <a:t>Substitute values from part </a:t>
            </a:r>
            <a:r>
              <a:rPr b="1" lang="en-GB" sz="2000" spc="-1" strike="noStrike">
                <a:solidFill>
                  <a:srgbClr val="2e6cb8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2e6cb8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1212840" y="5681520"/>
            <a:ext cx="805356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1901880" y="5241960"/>
            <a:ext cx="4870440" cy="463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225440" y="479736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1920960" y="4267080"/>
            <a:ext cx="805824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1231920" y="3852720"/>
            <a:ext cx="8058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26:44Z</dcterms:created>
  <dc:creator/>
  <dc:description/>
  <dc:language>en-US</dc:language>
  <cp:lastModifiedBy/>
  <dcterms:modified xsi:type="dcterms:W3CDTF">2011-12-08T11:26:51Z</dcterms:modified>
  <cp:revision>1</cp:revision>
  <dc:subject/>
  <dc:title/>
</cp:coreProperties>
</file>